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EA9-713C-4AC0-BF19-9F48ABFD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C50-B5D8-46C6-986B-EB109516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1F0-52EB-4057-8FAD-D658BE17B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423-8316-40D4-9149-06B0EAA1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DA7-3ECE-44AF-A6CE-FBDB6CAA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3B3-F28C-4035-86A5-6045CECD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5760-E3CA-41D1-A102-06168667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1D7-DBE3-4090-80F8-89AE9E8F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587-6BAC-43B4-B32A-F505CA66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2311-F5D0-4DEC-9CC0-59D40C1F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85A-0117-4735-B76B-7AC2937E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D3D-8DE1-40F1-92AC-0E7D9D9A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2231-B0F8-41B5-9C25-D7F3529CA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Black"/>
              </a:rPr>
              <a:t>Lokalna anestez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jana Vulov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 u="sng">
                <a:solidFill>
                  <a:srgbClr val="ffffff"/>
                </a:solidFill>
                <a:uFillTx/>
                <a:latin typeface="Arial"/>
              </a:rPr>
              <a:t>TOKSIČNI EFEKTI NA K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04520" y="1590840"/>
            <a:ext cx="21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Times New Roman"/>
              </a:rPr>
              <a:t>A. INICIJALNO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90120" y="320508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B. INTERMEDIJALNA FAZA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66440" y="4500720"/>
            <a:ext cx="31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C. TERMINALNA FAZA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424400" y="1528920"/>
            <a:ext cx="40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Times New Roman"/>
              </a:rPr>
              <a:t>Hipertenzija i tahikardija u toku cns ekscit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491360" y="2900520"/>
            <a:ext cx="449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Produženje vremena sprovođ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Negativno inotrop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Smanjenje srčanog minutnog volum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Umerena hipotenz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4495680" y="4653000"/>
            <a:ext cx="2792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Periferna vazodilat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Duboka hipotenz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Sinusna bradikard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Blok sprovođ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Times New Roman"/>
              </a:rPr>
              <a:t>Cirkulatorni kol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 u="sng">
                <a:solidFill>
                  <a:srgbClr val="ffffff"/>
                </a:solidFill>
                <a:uFillTx/>
                <a:latin typeface="Arial"/>
              </a:rPr>
              <a:t>PREVENCIJA TOKSI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AV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NIKADA NE KORISTITI VEĆU KONCENTRACIJU OD POTREB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VASKULARNO PODRUČJE, VISOKA KONCENTRACIJA, VELIKI VOLUMEN: UVEK KORISTITI VAZOKONSTRIK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UVEK ASPIRIRATI  PRE INJEK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UVEK PROVERITI IDENTITET I KONCENTRACIJU LEKA KOJI SE KORI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UVEK PRORAČUNATI MAKSIMALNU DOZU PO KIL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IV LINIJA SE MORA POSTAVITI ZA BILO KOJU TEHNIKU REGIONALNE ANESTEZ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SPIRATOR, OPREMA ZA ARTEFICIJALNU VENTILACIJU I IZVOR KISEONIKA MORAJU UVEK BITI SPREMNI I PRI RU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 u="sng">
                <a:solidFill>
                  <a:srgbClr val="ffffff"/>
                </a:solidFill>
                <a:uFillTx/>
                <a:latin typeface="Arial"/>
              </a:rPr>
              <a:t>TRETMAN TOKSIČNIH REA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79440" y="1246320"/>
            <a:ext cx="3022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333399"/>
                </a:solidFill>
                <a:uFillTx/>
                <a:latin typeface="Times New Roman"/>
              </a:rPr>
              <a:t>HIPOTEN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100% O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IV rastvori-kolo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IV simpatikomim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708080" y="1246320"/>
            <a:ext cx="3588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333399"/>
                </a:solidFill>
                <a:uFillTx/>
                <a:latin typeface="Times New Roman"/>
              </a:rPr>
              <a:t>CNS EKSCITA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100% O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Protekcija disajnog p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Diazepam 0,1 mg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Thiopenton 2 mg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135520" y="3657600"/>
            <a:ext cx="21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333399"/>
                </a:solidFill>
                <a:uFillTx/>
                <a:latin typeface="Times New Roman"/>
              </a:rPr>
              <a:t>KVS KOL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5240" y="36576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333399"/>
                </a:solidFill>
                <a:uFillTx/>
                <a:latin typeface="Times New Roman"/>
              </a:rPr>
              <a:t>KONVULZ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639520" y="5157720"/>
            <a:ext cx="3626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INTUBI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VENTILIRATI SA 100 O</a:t>
            </a:r>
            <a:r>
              <a:rPr b="1" lang="sl-SI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CPCR PROTO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10"/>
          <p:cNvSpPr/>
          <p:nvPr/>
        </p:nvSpPr>
        <p:spPr>
          <a:xfrm>
            <a:off x="2590920" y="1523880"/>
            <a:ext cx="990360" cy="2057400"/>
          </a:xfrm>
          <a:custGeom>
            <a:avLst/>
            <a:gdLst>
              <a:gd name="textAreaLeft" fmla="*/ 0 w 990360"/>
              <a:gd name="textAreaRight" fmla="*/ 990720 w 9903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11"/>
          <p:cNvSpPr/>
          <p:nvPr/>
        </p:nvSpPr>
        <p:spPr>
          <a:xfrm rot="13543800">
            <a:off x="4590360" y="1724400"/>
            <a:ext cx="969840" cy="1733760"/>
          </a:xfrm>
          <a:custGeom>
            <a:avLst/>
            <a:gdLst>
              <a:gd name="textAreaLeft" fmla="*/ 0 w 969840"/>
              <a:gd name="textAreaRight" fmla="*/ 970200 w 969840"/>
              <a:gd name="textAreaTop" fmla="*/ 0 h 1733760"/>
              <a:gd name="textAreaBottom" fmla="*/ 1734120 h 1733760"/>
            </a:gdLst>
            <a:ahLst/>
            <a:rect l="textAreaLeft" t="textAreaTop" r="textAreaRight" b="textAreaBottom"/>
            <a:pathLst>
              <a:path fill="none" w="21499" h="21446">
                <a:moveTo>
                  <a:pt x="2574" y="-1"/>
                </a:moveTo>
                <a:cubicBezTo>
                  <a:pt x="12644" y="1208"/>
                  <a:pt x="20517" y="9261"/>
                  <a:pt x="21498" y="19356"/>
                </a:cubicBezTo>
              </a:path>
              <a:path stroke="0" w="21499" h="21446">
                <a:moveTo>
                  <a:pt x="2574" y="-1"/>
                </a:moveTo>
                <a:cubicBezTo>
                  <a:pt x="12644" y="1208"/>
                  <a:pt x="20517" y="9261"/>
                  <a:pt x="21498" y="19356"/>
                </a:cubicBezTo>
                <a:lnTo>
                  <a:pt x="0" y="21446"/>
                </a:lnTo>
                <a:lnTo>
                  <a:pt x="2574" y="-1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962520" y="4191120"/>
            <a:ext cx="838080" cy="7617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Izbor pravog lek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Estri su izgubili značaj zbog pojave preosetlj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docain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je najčešće korišćeni amid usled brzog nastupa i umerene dužine dej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Raspoloživ ka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0.5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4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;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najčešće se koristi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2%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kada je indikovan mali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pivacain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sporije i duže del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Izbor pravog leka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pivacain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je naročito koristan kada je adrenalin kontraindikov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blok zgloba ..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Drugi amidi se najčešće koriste u spinalnoj anestez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Dodatak adrenalin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1:100,000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200,000 (5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10 ug/ml)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je korisno za produženje dejstva i donekle hemosta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Početak optimalnog vazokonstriktornog efekta adrenalina je za 5 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 u="sng">
                <a:solidFill>
                  <a:srgbClr val="ffffff"/>
                </a:solidFill>
                <a:uFillTx/>
                <a:latin typeface="Arial"/>
              </a:rPr>
              <a:t>Smanjenje bola tokom davanja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Bol je posledica prodora igle ili infiltracije aneste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Koristiti što tanje ig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npr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25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 30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Površna anestez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Štipanje kože stimuliše senzorne nerve i parcijalno blokira transmisiju drugih bolnih stimul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Sporo injekt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Injektovanje direktno u subkutano tkivo je manje bolno od direktnog davanja u 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Na bikarbonat umanjuje senzacije paljenj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(Mix 9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prem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Grejanj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lidocain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-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na telesnu temperaturu umanjuje 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hnika blokade nerava lokalnim anestetik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92040" y="1600200"/>
            <a:ext cx="7621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763640" y="1676520"/>
            <a:ext cx="20574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ni blok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763640" y="3200400"/>
            <a:ext cx="2057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ni nervni bloko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lnarni, femoralni,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763640" y="4343400"/>
            <a:ext cx="2057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iltraciona anestez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rektna infiltrac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1763640" y="6172200"/>
            <a:ext cx="2057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pikalna anestez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koža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kozne membr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1834920" y="5334120"/>
            <a:ext cx="178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kavitalno da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zglob, pleura,.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4659480" y="14479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ni i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aksijalni bloko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4659480" y="21337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vens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na anestezija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659480" y="2819520"/>
            <a:ext cx="19810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kada pleks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7174080" y="1447920"/>
            <a:ext cx="1600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7174080" y="1981080"/>
            <a:ext cx="1600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5"/>
          <p:cNvSpPr/>
          <p:nvPr/>
        </p:nvSpPr>
        <p:spPr>
          <a:xfrm>
            <a:off x="1230480" y="220968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6"/>
          <p:cNvSpPr/>
          <p:nvPr/>
        </p:nvSpPr>
        <p:spPr>
          <a:xfrm>
            <a:off x="1230480" y="350532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7"/>
          <p:cNvSpPr/>
          <p:nvPr/>
        </p:nvSpPr>
        <p:spPr>
          <a:xfrm>
            <a:off x="1230480" y="4724280"/>
            <a:ext cx="53316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8"/>
          <p:cNvSpPr/>
          <p:nvPr/>
        </p:nvSpPr>
        <p:spPr>
          <a:xfrm>
            <a:off x="1230480" y="5638680"/>
            <a:ext cx="53316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9"/>
          <p:cNvSpPr/>
          <p:nvPr/>
        </p:nvSpPr>
        <p:spPr>
          <a:xfrm>
            <a:off x="1230480" y="6477120"/>
            <a:ext cx="533160" cy="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0"/>
          <p:cNvSpPr/>
          <p:nvPr/>
        </p:nvSpPr>
        <p:spPr>
          <a:xfrm flipV="1">
            <a:off x="3897360" y="1676160"/>
            <a:ext cx="609480" cy="152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1"/>
          <p:cNvSpPr/>
          <p:nvPr/>
        </p:nvSpPr>
        <p:spPr>
          <a:xfrm>
            <a:off x="3973680" y="2438280"/>
            <a:ext cx="5331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2"/>
          <p:cNvSpPr/>
          <p:nvPr/>
        </p:nvSpPr>
        <p:spPr>
          <a:xfrm>
            <a:off x="3973680" y="2819520"/>
            <a:ext cx="533160" cy="152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6716880" y="1600200"/>
            <a:ext cx="380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6716880" y="1828800"/>
            <a:ext cx="380880" cy="304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6"/>
          <p:cNvSpPr/>
          <p:nvPr/>
        </p:nvSpPr>
        <p:spPr>
          <a:xfrm>
            <a:off x="6397560" y="361800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Regionalna aneste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7"/>
          <p:cNvSpPr/>
          <p:nvPr/>
        </p:nvSpPr>
        <p:spPr>
          <a:xfrm>
            <a:off x="6489720" y="434340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Lokalna anestez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 rot="5400000">
            <a:off x="-536040" y="4070520"/>
            <a:ext cx="26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okalni aneste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Lokalni aneste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su hemijska sredstva kojima se postiže reverzibilna lokalna anestezija uz očuvanje sve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Lokalna anestez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Arial"/>
              </a:rPr>
              <a:t>podrazumeva farmakološko izazivanje neosetljivosti u jednom delu tela privremenim prekidom sprovođenja impulsa kroz nerv ili inhibicijom razdražljivosti nervnih vlak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Lipofilni kraj                Intermedijarni lanac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rofilni deo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      (Benzenov prsten)     (amid ili estar)         (quatenera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Hexagon 1"/>
          <p:cNvSpPr/>
          <p:nvPr/>
        </p:nvSpPr>
        <p:spPr>
          <a:xfrm>
            <a:off x="714240" y="1714680"/>
            <a:ext cx="121464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lowchart: Connector 2"/>
          <p:cNvSpPr/>
          <p:nvPr/>
        </p:nvSpPr>
        <p:spPr>
          <a:xfrm>
            <a:off x="1000080" y="2000160"/>
            <a:ext cx="642960" cy="642960"/>
          </a:xfrm>
          <a:prstGeom prst="flowChartConnec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3"/>
          <p:cNvSpPr/>
          <p:nvPr/>
        </p:nvSpPr>
        <p:spPr>
          <a:xfrm>
            <a:off x="2911320" y="1833480"/>
            <a:ext cx="3383280" cy="696960"/>
          </a:xfrm>
          <a:custGeom>
            <a:avLst/>
            <a:gdLst/>
            <a:ahLst/>
            <a:rect l="l" t="t" r="r" b="b"/>
            <a:pathLst>
              <a:path w="3383280" h="696686">
                <a:moveTo>
                  <a:pt x="15240" y="361406"/>
                </a:moveTo>
                <a:cubicBezTo>
                  <a:pt x="30480" y="259080"/>
                  <a:pt x="145869" y="0"/>
                  <a:pt x="276497" y="47897"/>
                </a:cubicBezTo>
                <a:cubicBezTo>
                  <a:pt x="407126" y="95794"/>
                  <a:pt x="622662" y="653143"/>
                  <a:pt x="799011" y="648789"/>
                </a:cubicBezTo>
                <a:cubicBezTo>
                  <a:pt x="975360" y="644435"/>
                  <a:pt x="1180012" y="34835"/>
                  <a:pt x="1334589" y="21772"/>
                </a:cubicBezTo>
                <a:cubicBezTo>
                  <a:pt x="1489166" y="8709"/>
                  <a:pt x="1587137" y="559526"/>
                  <a:pt x="1726474" y="570412"/>
                </a:cubicBezTo>
                <a:cubicBezTo>
                  <a:pt x="1865811" y="581298"/>
                  <a:pt x="2035628" y="84909"/>
                  <a:pt x="2170611" y="87086"/>
                </a:cubicBezTo>
                <a:cubicBezTo>
                  <a:pt x="2305594" y="89263"/>
                  <a:pt x="2399211" y="574767"/>
                  <a:pt x="2536371" y="583475"/>
                </a:cubicBezTo>
                <a:cubicBezTo>
                  <a:pt x="2673531" y="592183"/>
                  <a:pt x="2862942" y="139337"/>
                  <a:pt x="2993571" y="139337"/>
                </a:cubicBezTo>
                <a:cubicBezTo>
                  <a:pt x="3124200" y="139337"/>
                  <a:pt x="3383280" y="576944"/>
                  <a:pt x="3320143" y="583475"/>
                </a:cubicBezTo>
                <a:cubicBezTo>
                  <a:pt x="3257006" y="590006"/>
                  <a:pt x="2821578" y="176349"/>
                  <a:pt x="2614749" y="178526"/>
                </a:cubicBezTo>
                <a:cubicBezTo>
                  <a:pt x="2407920" y="180703"/>
                  <a:pt x="2216331" y="598714"/>
                  <a:pt x="2079171" y="596537"/>
                </a:cubicBezTo>
                <a:cubicBezTo>
                  <a:pt x="1942011" y="594360"/>
                  <a:pt x="1920240" y="169817"/>
                  <a:pt x="1791789" y="165463"/>
                </a:cubicBezTo>
                <a:cubicBezTo>
                  <a:pt x="1663338" y="161109"/>
                  <a:pt x="1473926" y="579120"/>
                  <a:pt x="1308463" y="570412"/>
                </a:cubicBezTo>
                <a:cubicBezTo>
                  <a:pt x="1143000" y="561704"/>
                  <a:pt x="986245" y="97972"/>
                  <a:pt x="799011" y="113212"/>
                </a:cubicBezTo>
                <a:cubicBezTo>
                  <a:pt x="611777" y="128452"/>
                  <a:pt x="317863" y="627018"/>
                  <a:pt x="185057" y="661852"/>
                </a:cubicBezTo>
                <a:cubicBezTo>
                  <a:pt x="52251" y="696686"/>
                  <a:pt x="0" y="463732"/>
                  <a:pt x="15240" y="361406"/>
                </a:cubicBez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715080" y="1571760"/>
            <a:ext cx="242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6600" spc="-1" strike="noStrike">
                <a:solidFill>
                  <a:srgbClr val="ffffff"/>
                </a:solidFill>
                <a:latin typeface="Calibri"/>
              </a:rPr>
              <a:t>N  </a:t>
            </a:r>
            <a:r>
              <a:rPr b="0" lang="sr-Latn-CS" sz="4000" spc="-1" strike="noStrike">
                <a:solidFill>
                  <a:srgbClr val="ffffff"/>
                </a:solidFill>
                <a:latin typeface="Calibri"/>
              </a:rPr>
              <a:t>H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7"/>
          <p:cNvSpPr/>
          <p:nvPr/>
        </p:nvSpPr>
        <p:spPr>
          <a:xfrm>
            <a:off x="7429680" y="2500200"/>
            <a:ext cx="500040" cy="179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9"/>
          <p:cNvSpPr/>
          <p:nvPr/>
        </p:nvSpPr>
        <p:spPr>
          <a:xfrm flipV="1">
            <a:off x="7500960" y="1714320"/>
            <a:ext cx="500040" cy="21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395280" y="3500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minoest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1. imaju estar u intermedijarnom lan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2. lipofilni kraj je derivat benzoi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e 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ki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3. metabolišu se putem plaz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holinester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4. antiholinesterazni lekovi ne uti</a:t>
            </a:r>
            <a:r>
              <a:rPr b="0" lang="hr-HR" sz="1800" spc="-1" strike="noStrike">
                <a:solidFill>
                  <a:srgbClr val="333399"/>
                </a:solidFill>
                <a:latin typeface="Arial"/>
              </a:rPr>
              <a:t>č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u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rzinu razgradnje ovih L.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5. mogu se javiti alergijske reakcije k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posledica razgradnje es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572000" y="350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Aminoami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imaju amid u intermedijarnom </a:t>
            </a: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lan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2. lipofilni kraj je derivat ala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3. metabolišu se u je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4. veoma retke alergijske rea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azvstavanja lokalnih aneste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stri                          i               am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Kokain                                 Lidok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kain                                Mepivak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etrakain                             Prilok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lorprokain                          Bupivak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 u="sng">
                <a:solidFill>
                  <a:srgbClr val="ffffff"/>
                </a:solidFill>
                <a:uFillTx/>
                <a:latin typeface="Arial"/>
              </a:rPr>
              <a:t>ZAJEDNIČKE ODLIKE LOKALNIH ANESTET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SLABE BAZE (pk A&gt;7,4) – SLABO RASTVORLJIVE U VO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POSTOJANE KAO HIDROHLORNE SOLI, Ph 4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4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6,4 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 SADA RASTVORLJIVE U VO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U RASTVORU JE MEŠAVINA NE-JONIZOVANE (RASTVORLJIVE U MASTIMA) SLOBODNE BAZE &amp; JONIZOVANE (RASTVORLJIVE U VODI) KATJONSKE FOR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TELESNI PUFERI POVEĆAVAJU Ph, POVEĆAVAJUĆI KOLIČINU B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FORMA RASTVORLJIVA U LIPIDIMA PROLAZI AKSONALNU MEMBRA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DEO RASTVORLJIV U VODI BLOKIRA Na KA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KARBONACIJA </a:t>
            </a:r>
            <a:r>
              <a:rPr b="1" lang="sr-Latn-C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sr-Latn-C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A </a:t>
            </a:r>
            <a:r>
              <a:rPr b="1" lang="sr-Latn-C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CO2</a:t>
            </a:r>
            <a:r>
              <a:rPr b="1" lang="sr-Latn-CS" sz="1600" spc="-1" strike="noStrike">
                <a:solidFill>
                  <a:srgbClr val="333399"/>
                </a:solidFill>
                <a:latin typeface="Arial"/>
              </a:rPr>
              <a:t> (povećanje dejst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DRENALIN, ANTIOKSIDAN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</a:t>
            </a:r>
            <a:r>
              <a:rPr b="1" lang="sl-SI" sz="2400" spc="-1" strike="noStrike" u="sng">
                <a:solidFill>
                  <a:srgbClr val="ffffff"/>
                </a:solidFill>
                <a:uFillTx/>
                <a:latin typeface="Arial"/>
              </a:rPr>
              <a:t>DOSLED DOGAĐAJA KOJI DOVODE DO BLOKADE </a:t>
            </a:r>
            <a:br>
              <a:rPr sz="2400"/>
            </a:br>
            <a:r>
              <a:rPr b="1" lang="sl-SI" sz="2400" spc="-1" strike="noStrike" u="sng">
                <a:solidFill>
                  <a:srgbClr val="ffffff"/>
                </a:solidFill>
                <a:uFillTx/>
                <a:latin typeface="Arial"/>
              </a:rPr>
              <a:t>PROVODLJIVOST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DIFUZIJA BAZNE FORME KROZ NERVNI OMOTAČ I NERVNU MEMBR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USPOSTAVLJANJE EKVILIBRIJUMA IZMEĐU BAZNE I KATJONSKE FORME U AKSOPLAZ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PENETRACIJA KATJONA I VEZIVANJE ZA RECEPTORNO MESTO U Na KAN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BLOKADA Na KA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INHIBICIJA Na PROPUSTLJ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</a:t>
            </a:r>
            <a:r>
              <a:rPr b="1" lang="sl-SI" sz="2400" spc="-1" strike="noStrike" u="sng">
                <a:solidFill>
                  <a:srgbClr val="ffffff"/>
                </a:solidFill>
                <a:uFillTx/>
                <a:latin typeface="Arial"/>
              </a:rPr>
              <a:t>DOSLED DOGAĐAJA KOJI DOVODE DO BLOKADE </a:t>
            </a:r>
            <a:br>
              <a:rPr sz="2400"/>
            </a:br>
            <a:r>
              <a:rPr b="1" lang="sl-SI" sz="2400" spc="-1" strike="noStrike" u="sng">
                <a:solidFill>
                  <a:srgbClr val="ffffff"/>
                </a:solidFill>
                <a:uFillTx/>
                <a:latin typeface="Arial"/>
              </a:rPr>
              <a:t>PROVODLJIVOST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SMANJENJE FREKVENCE I VELIČINE FAZE DEPOLARIZACIJE AKCIONOG POTENC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NEMOGUĆNOST DOSTIZANJA PRAGOVNOG POTENC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IZOSTANAK RAZVOJA I ŠIRENJA AKCIONOG POTENCIJ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BLOKADA PROVOĐENJA IMPU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285840" y="28584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kalni anestetici </a:t>
            </a:r>
            <a:r>
              <a:rPr b="0" lang="hr-HR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se u upotrebi nalaze kao vodeni rastvori soli HCl u kojima postoji ekvilibrijum bazne i katjonske forme. Rastvori su acidifikovani na vrednost PH = 4,40 - 6,4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24000" y="1553760"/>
            <a:ext cx="835812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 rastvore L.A. se dodaju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Vazokonstriktori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da bi produžili trajanje anestezije, smanjili pik L.A. u krvi, povećali intenzitet blokade, smanjili hirurški gubitak krvi (pri lokalnoj infiltracij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Maximalna koncentracija epinefrina je 5 </a:t>
            </a:r>
            <a:r>
              <a:rPr b="0" lang="hr-HR" sz="20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g / ml (1:200.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ff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aximalna doza ne sme da pređe 200 -250 </a:t>
            </a:r>
            <a:r>
              <a:rPr b="0" lang="hr-HR" sz="2000" spc="-1" strike="noStrike">
                <a:solidFill>
                  <a:srgbClr val="66ff33"/>
                </a:solidFill>
                <a:latin typeface="Symbol"/>
                <a:ea typeface="Symbol"/>
              </a:rPr>
              <a:t>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66ff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Kontraindikacije: izražena nestabilna angina pectoris, maligna aritmija, nekontrolisana hipertenzija, uteroplacentna insuficijencija, hipertiroidizam, periferna blokada gde nema kolateralnog krvotoka, intravenska regionalna anestezi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Antimikrobne supstance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najčeće derivati parab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NaHCO3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u cilju podizanja 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Dextran</a:t>
            </a:r>
            <a:r>
              <a:rPr b="0" lang="hr-HR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produžava trajanje anestezije ali može izazvati anafilak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Hyaluronidaza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zbog prevencije hemat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Karbonifikacija</a:t>
            </a:r>
            <a:r>
              <a:rPr b="0" lang="hr-H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- sa CO2, pomaže difuziju L.A. u nervno tk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 u="sng">
                <a:solidFill>
                  <a:srgbClr val="ffffff"/>
                </a:solidFill>
                <a:uFillTx/>
                <a:latin typeface="Arial"/>
              </a:rPr>
              <a:t>TOKSIČNOST LOKALNIH ANESTE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NEOČEKIVANO INTRAVASKULARNO DAVANJE KOREKTNE DOZE L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DAVANJE EKSCESIVNE DOZE L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DIREKTNA TKIVNA TOKSIČNOST LEKA ILI   AD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RETKO, ANAFILAKTOIDNA ILI ANAFILAKTIČKA REA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56:50Z</dcterms:created>
  <dc:creator>Info</dc:creator>
  <dc:description/>
  <dc:language>en-US</dc:language>
  <cp:lastModifiedBy>Korisnik</cp:lastModifiedBy>
  <dcterms:modified xsi:type="dcterms:W3CDTF">2020-04-28T17:54:15Z</dcterms:modified>
  <cp:revision>5</cp:revision>
  <dc:subject/>
  <dc:title>Lokalna anestezija: periferni nervni blokovi</dc:title>
</cp:coreProperties>
</file>